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920-FD47-40F1-BE9F-975BB180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D83-2C10-4C54-AA67-2771E9C4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E64-9546-4567-A83F-A7889909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10B-F162-4A00-B7BF-A67513D4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33C-9E62-4118-94FC-0856563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320-897D-4283-87F9-EA563CF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C2E-4B5E-4C8A-9C73-B51295FE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96A-788B-403D-BCE1-6583F4CB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435-6791-4620-8BC2-5084477B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E3E-9183-441E-B666-0062AC9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383-3A8A-41C5-A185-605BA7A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4D7-B467-4D04-9E3F-FCA7588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59CB-3320-4ADA-8DF8-BE688CD94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Partnering for Education</a:t>
            </a:r>
            <a:br>
              <a:rPr sz="40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nd </a:t>
            </a:r>
            <a:br>
              <a:rPr sz="32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vitation to Local K-12 STEM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Team Member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omic Imagi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ghid Corcoran (G), Ruth Craft (T) &amp;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nette Raigoza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tronom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e Ribaudo (G) &amp; Aaron McNeely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ames Whitcomb(G) &amp; Mark Ballentine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informatic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ill Dzurisin (G) &amp; Tom Loughra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otic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yan Connaughton (G), Ken Andert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an Brubaker (T) &amp; Matt Modli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osing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c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fice of Congressman Joe Donne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um Centerpiece – Project Fair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onal Tours – Chemistry &amp; Physics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inders – Evaluation and Contact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x Lunch – Available in Gall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or of Community Relations University of Notre D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ion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fice of U.S. Senator Evan Bay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onso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ational Science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QuarkNet Center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Research Community (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help of MANY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ing Organiz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oEyes (Thomas Jefferson Univers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ISM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rk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2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:30 - 10:0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00 - 10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 of Museum of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 Digital Visualization 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40 - 11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 Presentation by Dr. Jamie Sh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:40 – 12:00 no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:00 – 2:00 p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osing Remarks, Lunch and Project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s of Chemistry &amp; Physics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5 Year NSF GK-12 Project – 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ly 6 Graduate Fellows from Science and Engineering and 7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often include a graduate fellow, a teacher and several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concentrate on research during the summer and on educational activities during the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is Important – complementary approach to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acher is the Professional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 Effective and Collegial Relationships - M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gin Slowly – An 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ed Judiciously with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ablish an Enduring Community of Researchers/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ster a Rich Culture in Engineering, Science and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during Community and Rich Culture are Mutually Enh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Variety of Opportuniti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ome a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– primarily during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assroom Activities – primarily during the 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ear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uate Fellow can be a mentor/colleague for 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/Implement Activities – BioEyes &amp;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ubs – Robotics, Science, Ma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a Suggestion – maybe we can collaborate in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y we haven’t thought of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efits for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ence the collegiality and excitement of collaborating with fellow teachers and Notre Dame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rk with fellow teachers and Notre Dame researchers to enhance STEM education in the local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aried research positions at Notre Dame during the sum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ademic credit for graduate research at Notre D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J. Mooney</cp:lastModifiedBy>
  <dcterms:modified xsi:type="dcterms:W3CDTF">2007-12-01T05:59:0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